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638-E53E-4C73-A1C5-9D5F93DD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0B8-2996-40A3-B68D-DA846213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F6A-EEA6-48D6-B7CA-E02650BD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ED3-C57B-4139-89AA-72901A7E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F60-74C2-4664-9814-DCF66BC3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D32-0EB5-43A7-87F8-835F8C95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A71-B0C2-4803-B134-B9CDC6AE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FB1-C300-4337-8FFA-92BC0C3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55C-5BF5-4988-B88B-FF3694C6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FE2-C486-4EC4-804E-DCBB76B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D63-5F41-4AF3-8BDE-AAE1D6CD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4C8-71A5-4E92-B413-10707BAC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A78-E556-4541-A607-DE83347EB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722214aJLtUnFFfJ_ph" descr=""/>
          <p:cNvPicPr/>
          <p:nvPr/>
        </p:nvPicPr>
        <p:blipFill>
          <a:blip r:embed="rId1"/>
          <a:stretch/>
        </p:blipFill>
        <p:spPr>
          <a:xfrm>
            <a:off x="0" y="0"/>
            <a:ext cx="57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304920"/>
            <a:ext cx="3352680" cy="10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مراعٍ خصيبةٍ يُقيلني ومياهَ الراحة يورِدُ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ردُّ نفسي وسبُلَ البرِّ يهدي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5880" y="0"/>
            <a:ext cx="27432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720KKRTabSSPZ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0"/>
            <a:ext cx="33526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ولو سلكتُ في وادي ظال الموت لا أخافُ سوءاً لأنك معي عصاك وعُكّازُك هما يعزياني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9:36:20Z</dcterms:created>
  <dc:creator>SUZANNE.MD</dc:creator>
  <dc:description/>
  <dc:language>en-US</dc:language>
  <cp:lastModifiedBy>USER</cp:lastModifiedBy>
  <dcterms:modified xsi:type="dcterms:W3CDTF">2003-01-22T11:14:34Z</dcterms:modified>
  <cp:revision>2</cp:revision>
  <dc:subject/>
  <dc:title>PowerPoint Presentation</dc:title>
</cp:coreProperties>
</file>